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A52-A4BA-4A02-A70F-5D4B613F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138-7DFB-409A-8C32-5139EE3AA59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31E-5A87-43D5-B84C-F5284986F93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8E92-7862-4505-BF40-0D175C6C3D2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0D0-80B3-4F96-98DE-BCC0A720EDD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2B9-CBB5-44E2-BF58-9F211759F79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A791-E764-4F1D-AE38-D57B211EB5C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04EE-8DE5-4F8A-B585-E2ADB8B04D0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557-0DD4-4172-8ED2-DAF3458F7D2D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BEBA-1973-41BA-BB1F-19F3554E6FE5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63C-15DD-45EB-A531-D6BD2165075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073-CE92-463D-B7D6-3517CD687A6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FB90-5B4C-41F8-BAD1-AC783E4120D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4C11-9720-4696-A298-E1D738B3E84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BAAA-A26B-4988-82F1-CA025E3361E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7C7-30AC-4C84-AED4-958C4EC3BF6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B1C-7ACC-4400-A796-55A45F8E9F2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7C3D-7E71-4559-9BF9-A9EEE3E9063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223-1A15-43F8-A760-922BBE12998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969F-B490-45C0-8512-5FC20611CBAA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7AD-0759-4D35-AD62-BBAFD40D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DD1-61E7-4718-A691-2E8D848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F96-7FC3-4C98-A7EF-5BEE68ED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040-6E38-47D9-B1E7-DA3644C6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F7B-57E3-413F-A819-8EC9879B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88C8-C781-4F69-9AEA-E7E9E2F5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B65-C0DC-41B1-B165-79930D9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0E7-A2C9-465D-B1CC-20781106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D31E-A698-49DE-8E60-06A0972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C92-A22E-4DC0-9983-ECE1D2CB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263-CFC8-44E2-87FB-855BAA2A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12C-570A-42F9-A98A-806BF8C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2CF-E12C-44E5-A621-A6EE284B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D3E-B51A-4EAA-A1CE-F92B2466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DCD2-92F1-46F9-93A3-A080A55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56F7-C52C-4891-BD76-668BFDF1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26AD-BEB1-42C7-B338-682B07B1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C48-B235-47BA-8558-8AB03B5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132-3BEF-4503-B33F-F27E75D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BD4-057B-4B7F-AF56-5A0E87EE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511-3B84-4B78-861B-F7300C7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F45-1843-4EE6-870F-D07F76D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567-427C-4559-834E-D973B3A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A5D-E220-4F1C-8EB2-D23392C0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515-8E9C-4001-BED4-08FD4888E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60C-8E07-4482-B20F-06F9EB16BC59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tf.austraining.com.a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Endeavour Language</a:t>
            </a:r>
            <a:br>
              <a:rPr sz="4400"/>
            </a:b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Teacher Fellowship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228960" y="3962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orinne Pixt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Tori Robson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5" name="Picture 4" descr="IMG_0677"/>
          <p:cNvPicPr/>
          <p:nvPr/>
        </p:nvPicPr>
        <p:blipFill>
          <a:blip r:embed="rId1"/>
          <a:stretch/>
        </p:blipFill>
        <p:spPr>
          <a:xfrm>
            <a:off x="5029200" y="3352680"/>
            <a:ext cx="2459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resources photo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Using resources in clas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aching Kind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Kindy teac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ultural visi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787280" y="1944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Van Gogh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1514880" y="9507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Cézann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a Marche des Roi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la marche in Aix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teli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Vos idées!!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- What to look out for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ctivities with resourc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ultural insight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etworking with other teachers Sourcing authentic resources in Sydney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are we headed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29320" y="2097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1) The ELTF experie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130400" y="2782800"/>
            <a:ext cx="730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2) Benefits of the program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king connections with French teac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Networking with international teach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ocating authentic resourc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Using resources and teachers’ experiences in clas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06000" y="545004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3) Exchanging Ide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he ELTF Experien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00356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053000" y="2097000"/>
            <a:ext cx="5227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3 weeks in Aix en Provence, Franc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Language study each da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ultural excursion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Home stay arrangement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ll expenses included!!!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pplications open May 2012, close Augu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re-service / current teach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Not done the program in the last 5 yea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5421"/>
                </a:solidFill>
                <a:uFillTx/>
                <a:latin typeface="Arial"/>
                <a:hlinkClick r:id="rId1"/>
              </a:rPr>
              <a:t>www.eltf.austraining.com.au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        </a:t>
            </a:r>
            <a:r>
              <a:rPr b="1" lang="en-US" sz="6200" spc="-1" strike="noStrike">
                <a:solidFill>
                  <a:srgbClr val="212164"/>
                </a:solidFill>
                <a:latin typeface="Arial"/>
              </a:rPr>
              <a:t>Why?</a:t>
            </a:r>
            <a:endParaRPr b="0" lang="en-US" sz="6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king connections with</a:t>
            </a:r>
            <a:br>
              <a:rPr sz="4400"/>
            </a:b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French teach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Networking with international teacher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Video of English class in Franc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Penpal progra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hotos of Penpal letter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Locating authentic resour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0:16:00Z</dcterms:created>
  <dc:creator>Tori Robson</dc:creator>
  <dc:description/>
  <dc:language>en-US</dc:language>
  <cp:lastModifiedBy>Victoria Robson</cp:lastModifiedBy>
  <dcterms:modified xsi:type="dcterms:W3CDTF">2011-08-29T23:37:47Z</dcterms:modified>
  <cp:revision>74</cp:revision>
  <dc:subject/>
  <dc:title>PowerPoint Presentation</dc:title>
</cp:coreProperties>
</file>